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6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FFB-773B-4A85-81BE-D67C95D7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718-8764-4321-B05E-42AFCB4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20A-0C32-49C1-A212-E6754F13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DDC-A12F-452C-819D-FA9B5528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7895-E922-4FCF-BB2C-D0C0808B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D94F-348B-42EF-A5F3-6476C90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E26D-7A15-4BA0-895C-9721D4D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55BE-0E8F-4358-8DC5-F8E7DC8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5091-9822-4E0B-91E6-378F3981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3B85-DBBE-4BFF-80AD-CF146D3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460A-D9D9-469B-A7CC-8537817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648-59E3-4C0D-BB31-5684A31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B910-0BAE-46A5-9061-23799E5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6D02-0754-4B34-8ECE-E7E04F3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4543-BB9E-46D9-829D-E6EF3388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82BF-421B-4F58-9A17-0978CF81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650A-5230-4FB7-97D9-3FF790A3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BC4-9CCC-409D-9BB4-2453A232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6E7-3F98-4807-9077-5678F718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9CE-0BDB-4A83-B95D-44299DA5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B77-400F-4879-970F-CB8468D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9EB-0F30-44A8-94C2-9A3C093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4C6-A2FE-4027-A149-A06206E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1B8-1E16-4FDE-938F-51003EB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4362-10C3-4835-86C3-8E43D9551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043E-81D5-472C-B8F5-256C3FB00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gust 2006, the yacht 'Maiken' is traveling in the south Pacific when they came across a weird sight..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in"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16280" y="601992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then this was spott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933960" cy="520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29920" y="59832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h and steam rising from the ocea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4457880" cy="5943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50000" y="72540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, while the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e watchin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5760" y="609588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rand new island formed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18080" y="59436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lume of black ash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0400" y="1523880"/>
            <a:ext cx="859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bet this is the most inter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ng you’ll see to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9160" y="6107040"/>
            <a:ext cx="75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as sand in the water, and floating ON TOP of the waves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8360" y="59436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not a beach, it is volcanic stones floating on the 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4160" y="60199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ail left by the yach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  <p:sndAc>
      <p:stSnd>
        <p:snd r:embed="rId3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9:38:06Z</dcterms:created>
  <dc:creator>Berny Mills</dc:creator>
  <dc:description/>
  <cp:keywords/>
  <dc:language>en-US</dc:language>
  <cp:lastModifiedBy>Berny Mills</cp:lastModifiedBy>
  <dcterms:modified xsi:type="dcterms:W3CDTF">2006-12-10T20:00:19Z</dcterms:modified>
  <cp:revision>2</cp:revision>
  <dc:subject/>
  <dc:title>August 2006, the yacht 'Maiken' is traveling in the south Pacific when they came across a weird sight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11033</vt:lpwstr>
  </property>
</Properties>
</file>